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9BC-2C8E-4982-ACCE-44063CB8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DA2-E74D-4014-96B8-65D03B44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7B8-2D7A-4DCD-A1BD-B4A85A7F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D8C-F9DB-4649-A163-15A9A472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DDE-A024-48FE-BD15-DB701005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900-8A03-4713-9C96-F7B87CAE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0FA-BCFF-48C6-82DA-B3DCF932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6A6-8B30-4DDB-86C5-A430C5B5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DAE-4AD4-446E-96F3-7CAD0CB9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40B-0A6D-4F72-9D30-C2DB8E7E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107-8551-4B00-96F9-060D9862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7D4-78E5-4F1D-9BC9-C17F03C5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601F-C57E-4D19-9883-486C9132F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hyperlink" Target="http://www.freeplaymusic.com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web.mit.edu/invent/iow/christiansen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7480" y="4429080"/>
            <a:ext cx="16765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nap ITC"/>
              </a:rPr>
              <a:t>Tessa </a:t>
            </a:r>
            <a:r>
              <a:rPr b="0" lang="en-US" sz="1600" spc="-1" strike="noStrike">
                <a:solidFill>
                  <a:srgbClr val="00ff00"/>
                </a:solidFill>
                <a:latin typeface="Snap ITC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nap ITC"/>
              </a:rPr>
              <a:t>May 11,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nap ITC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nap ITC"/>
              </a:rPr>
              <a:t>Computer #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3044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20858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81080" y="838080"/>
            <a:ext cx="195768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038480" y="838080"/>
            <a:ext cx="19670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867280" y="990720"/>
            <a:ext cx="232092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951680" y="1905120"/>
            <a:ext cx="1192320" cy="120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4419720"/>
            <a:ext cx="2819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nap ITC"/>
              </a:rPr>
              <a:t>Inv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nap ITC"/>
              </a:rPr>
              <a:t>Ole Kirk Christi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590920" y="55627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15228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nap ITC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Snap ITC"/>
              </a:rPr>
              <a:t>Don’t Wink</a:t>
            </a:r>
            <a:r>
              <a:rPr b="0" lang="en-US" sz="1800" spc="-1" strike="noStrike">
                <a:solidFill>
                  <a:srgbClr val="ffffff"/>
                </a:solidFill>
                <a:latin typeface="Snap ITC"/>
              </a:rPr>
              <a:t>, 6/1/2011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Christiansen"/>
          <p:cNvPicPr/>
          <p:nvPr/>
        </p:nvPicPr>
        <p:blipFill>
          <a:blip r:embed="rId2"/>
          <a:stretch/>
        </p:blipFill>
        <p:spPr>
          <a:xfrm>
            <a:off x="152280" y="380880"/>
            <a:ext cx="3146400" cy="487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Christiansen"/>
          <p:cNvPicPr/>
          <p:nvPr/>
        </p:nvPicPr>
        <p:blipFill>
          <a:blip r:embed="rId3"/>
          <a:srcRect l="78677" t="5175" r="2667" b="39462"/>
          <a:stretch/>
        </p:blipFill>
        <p:spPr>
          <a:xfrm>
            <a:off x="5105520" y="382680"/>
            <a:ext cx="3581280" cy="327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7600" y="484668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Lemelson MIT Progra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Snap ITC"/>
              </a:rPr>
              <a:t>Ole Kirk  Christiansen</a:t>
            </a: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5/16/1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christian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Snap ITC"/>
              </a:rPr>
              <a:t>Invention: L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LEGO” is from the Danish word “Leg Godt” which means “play well.” In Latin, “LEGO” is translated to “I put togethe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In 1949, LEGOs were still being made of w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In 1953, LEGOs began to be sold in complete plastic block sets. And in 1954, the company put a trademark on the product which they renamed “LEGO Brick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The company officially launched the “LEGO System of Play” in 1955 which included 28 different sets and 8 toy veh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The bricks “stud-and-tube coupling system” was patented in 195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LEGO sets were finally being sold in the United States in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A larger version of LEGOs, called “DUPLO” was started to be manufactured in 1967 for younger children and todd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The LEGO company even started building amusement parks based on the LEGO toys in 196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In 1977, LEGO “TECHNIC” sets were being made for older kids and te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Over the years, LEGO started making robotic LEGO sets that could move, “see ” “hear,” and even “see” colo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uhaus 93"/>
              </a:rPr>
              <a:t>LEGOs have been sold in 130 countri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nap ITC"/>
              </a:rPr>
              <a:t>Inventor: Ole Kirk Christian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Ole Kirk was born in 1891 in Filskov, Denm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He set up his own business in Billund, Denmark in 1932. He made stepladders, ironing boards, wooden toys and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The company’s most successful product, however, was wooden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In 1934, the company adopted the name “LEG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Ole Kirk’s son, Godtfred Kirk Christiansen, started to work with his father. He was the Junior Vice President of th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uhaus 93"/>
              </a:rPr>
              <a:t>Sadly, Ole Kirk Christiansen died in 195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44:14Z</dcterms:created>
  <dc:creator>install</dc:creator>
  <dc:description/>
  <dc:language>en-US</dc:language>
  <cp:lastModifiedBy>install</cp:lastModifiedBy>
  <dcterms:modified xsi:type="dcterms:W3CDTF">2011-06-01T17:35:44Z</dcterms:modified>
  <cp:revision>21</cp:revision>
  <dc:subject/>
  <dc:title>Slide 1</dc:title>
</cp:coreProperties>
</file>